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31.wmf" ContentType="image/x-wmf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5.png" ContentType="image/png"/>
  <Override PartName="/ppt/media/image10.wmf" ContentType="image/x-wmf"/>
  <Override PartName="/ppt/media/image2.png" ContentType="image/png"/>
  <Override PartName="/ppt/media/image32.png" ContentType="image/png"/>
  <Override PartName="/ppt/media/image1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7.wmf" ContentType="image/x-wmf"/>
  <Override PartName="/ppt/media/image37.wmf" ContentType="image/x-wmf"/>
  <Override PartName="/ppt/media/image17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8.wmf" ContentType="image/x-wmf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A15B-02B8-4E50-83AF-E40D2A49887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4041-0526-4BBA-AD5D-CF14C4187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F44D-C30A-44CD-8C5B-754351E964CD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.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D0DA-64E1-4F00-B02B-D803EC87A54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DynamicGraphics/JupiterImages (courtesy of McGraw-Hill Higher Education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5943-C6B5-4EFC-9415-B48A647E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EA7D-1221-4D8A-A56E-C78554A0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37B-A02B-4AA4-94DB-B07061B6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AF99-0F62-4C3F-BC9F-8F3551BE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3736-B768-4D89-9F85-76382346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D723-C715-498A-B4BD-6BE3CDD0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9F59-6E64-4309-BB8A-8E4BD017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81B3-B824-4C7D-8DD5-ECDA6F02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E4FB-E035-45FB-993A-3F474566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5042-225B-4049-8C47-5A300846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530B-259A-48C0-B252-95E9FA04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056C-8DCA-4E54-946B-1F34109C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C257-DBDD-4C0C-8C4E-7F1146A0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26FC-2BF7-4A6E-8D5D-EA434968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0C81-9655-4E52-8F53-E44D8BEE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BC74-4669-4B5A-A819-D4CFF1B1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B244-BD75-4C3B-868F-EE01F31D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22D1-84E6-41F9-A213-EEBA5CBD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8E5-34EF-4EFF-BD93-1E97E95A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46B-419A-43F1-BE63-0CFF8BDF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4C4-CB0A-4CC6-A1F7-9C4F226B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0D0D-414D-402C-A1BB-D4D5DFE3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A61A-7744-4230-B8D3-AAABAAF2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A796-5C77-4F3F-A9ED-8F0DC925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E3CC-0149-492B-9C52-8D280B2D3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3520" y="640044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09680" y="6400440"/>
            <a:ext cx="457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520" y="640044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4553-BEBB-4F16-AA64-1588B12CEFB1}" type="slidenum">
              <a:rPr b="0" lang="en-US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63400" y="1030320"/>
            <a:ext cx="1801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66"/>
                </a:solidFill>
                <a:latin typeface="Arial"/>
              </a:rPr>
              <a:t>5</a:t>
            </a:r>
            <a:endParaRPr b="0" lang="en-US" sz="6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041640" y="380880"/>
            <a:ext cx="61023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ssessment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of Muscular Fitness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2639880" y="638280"/>
            <a:ext cx="0" cy="5540400"/>
          </a:xfrm>
          <a:prstGeom prst="line">
            <a:avLst/>
          </a:prstGeom>
          <a:ln w="93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rcRect l="17499" t="-77320" r="9860" b="-64948"/>
          <a:stretch/>
        </p:blipFill>
        <p:spPr>
          <a:xfrm>
            <a:off x="447840" y="1035000"/>
            <a:ext cx="3120840" cy="1191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787320" y="67320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5" name="Picture 9" descr="backmuscle"/>
          <p:cNvPicPr/>
          <p:nvPr/>
        </p:nvPicPr>
        <p:blipFill>
          <a:blip r:embed="rId4"/>
          <a:stretch/>
        </p:blipFill>
        <p:spPr>
          <a:xfrm>
            <a:off x="5273640" y="2174760"/>
            <a:ext cx="3870360" cy="4683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backo049"/>
          <p:cNvPicPr/>
          <p:nvPr/>
        </p:nvPicPr>
        <p:blipFill>
          <a:blip r:embed="rId5"/>
          <a:stretch/>
        </p:blipFill>
        <p:spPr>
          <a:xfrm>
            <a:off x="2743200" y="2362320"/>
            <a:ext cx="198108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muscleboy_curl"/>
          <p:cNvPicPr/>
          <p:nvPr/>
        </p:nvPicPr>
        <p:blipFill>
          <a:blip r:embed="rId6"/>
          <a:stretch/>
        </p:blipFill>
        <p:spPr>
          <a:xfrm>
            <a:off x="2666880" y="4343400"/>
            <a:ext cx="2271960" cy="131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380880" y="2819520"/>
          <a:ext cx="1771920" cy="356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2819520"/>
                    <a:ext cx="177192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raining Principles/Term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39800" y="1447560"/>
            <a:ext cx="76629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Specificit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training in a specific way for a specific result or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Overloa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a training stress or intensity greater than what a client is use to in order to see continual physiological adapt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gress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as the training status improves over time, training stress or intensity continues to incr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ypertroph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Increase in the size of the muscle fib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troph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A reduction of muscle size due to detraining or a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Muscle Fact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39800" y="2362320"/>
            <a:ext cx="7662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erything is driven by musc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scle is more dense than fa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t takes up 28% more volume than musc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scle is wet.  Fat is d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st people gain 5-5 ½ lbs of muscle over 16 weeks of traini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 lb. increase in muscle = 50 kcal increase/day of RM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6781680" y="228600"/>
            <a:ext cx="16002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Muscle Fact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39800" y="2286000"/>
            <a:ext cx="766296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ter age 30, people start to lose muscle mas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aging, motor nerves (nerves that turn on muscle fibers) become disconnected from individual muscle fib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timated by age 70, 15% of the motor nerves become disconnected from their fib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y age 75, about 25% of men and 75% of women can NOT lift more than 10 lb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6858000" y="6094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3"/>
          <a:stretch/>
        </p:blipFill>
        <p:spPr>
          <a:xfrm>
            <a:off x="6845400" y="5251320"/>
            <a:ext cx="16254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ypes of Muscle Action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39800" y="1523880"/>
            <a:ext cx="76629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Concentri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Shortening of the muscle occurs. Positive pha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Eccentri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Lengthening of the muscle occurs.  Negative pha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Isometric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– Muscle is activated and develops force, but no movement occu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joint-angle specific.  Increase in muscle fiber recruitment at the trained ang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al to increase strength at the weakest point.  Helps with sticking join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d in rehab/physical therap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sotonic Training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39800" y="1828800"/>
            <a:ext cx="766296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st Common-referred to as weight training with free weights or machi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y be most beneficial to overall health – strength, tone, enduran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proved tendon and ligament streng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ss risk of inju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reased incidence of arthritis and low back p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proved bone strength, energy and fat los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324000" y="596880"/>
            <a:ext cx="158724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TT Principle for Strength Trainin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71" name="Picture 3" descr="fah_0404"/>
          <p:cNvPicPr/>
          <p:nvPr/>
        </p:nvPicPr>
        <p:blipFill>
          <a:blip r:embed="rId2"/>
          <a:stretch/>
        </p:blipFill>
        <p:spPr>
          <a:xfrm>
            <a:off x="762120" y="838080"/>
            <a:ext cx="7467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39800" y="1599840"/>
            <a:ext cx="7662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epeti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– One complete movement of an exerci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e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– Group of repeti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epetition Max  (RM)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Maximal number of reps per set that can be performed with proper lifting technique using a given resistenc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RM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– Heaviest resistance that can be used for 1 complete repetition of an exercise.  (Prediction chart on page 102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– Amount of weight lifted on a particular se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n increase intensity by: increasing wt., reps, sets or decreasing rest ti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1390680" y="5289480"/>
            <a:ext cx="161280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Common Muscular Strength Assessments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andgrip Tes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e procedures on p. 80 AC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rms are provided on p. 79, Table 5-1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2038320" y="3505320"/>
            <a:ext cx="3067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3"/>
          <a:srcRect l="0" t="7560" r="9860" b="1375"/>
          <a:stretch/>
        </p:blipFill>
        <p:spPr>
          <a:xfrm>
            <a:off x="482760" y="1144440"/>
            <a:ext cx="8243640" cy="954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625320" y="673200"/>
            <a:ext cx="8264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Procedures for 1RM Test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839880" y="1511280"/>
            <a:ext cx="7872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. The subject performs a light warm-up of 5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 10 repetitions at 40 to 60% of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erceived maximum (i.e., “light” t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“moderate” effor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839880" y="3168720"/>
            <a:ext cx="78595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2. Following a 1-min rest with light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retching, the subject performs 3 to 5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petitions at 60 to 80% of perceive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ximum (i.e., “moderate” to “hard”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ffor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7201080" y="6181560"/>
            <a:ext cx="163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3"/>
          <a:srcRect l="0" t="7560" r="9860" b="1375"/>
          <a:stretch/>
        </p:blipFill>
        <p:spPr>
          <a:xfrm>
            <a:off x="482760" y="1550880"/>
            <a:ext cx="8243640" cy="954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625320" y="762120"/>
            <a:ext cx="82645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Procedures for 1RM Testing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839880" y="1914480"/>
            <a:ext cx="7872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3. The subject attempts a 1RM lift. If the lift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s successful, a rest of 3 to 5 min is taken.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goal is to find the 1RM within 3 to 5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ximal effor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839880" y="3571920"/>
            <a:ext cx="7859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4. The 1RM is reported as the weight of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ast successfully completed lif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~AUT0105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1181160"/>
            <a:ext cx="9144000" cy="5427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musclegrl_curl"/>
          <p:cNvPicPr/>
          <p:nvPr/>
        </p:nvPicPr>
        <p:blipFill>
          <a:blip r:embed="rId3"/>
          <a:stretch/>
        </p:blipFill>
        <p:spPr>
          <a:xfrm>
            <a:off x="380880" y="0"/>
            <a:ext cx="1122480" cy="1374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muscleboy_curl"/>
          <p:cNvPicPr/>
          <p:nvPr/>
        </p:nvPicPr>
        <p:blipFill>
          <a:blip r:embed="rId4"/>
          <a:stretch/>
        </p:blipFill>
        <p:spPr>
          <a:xfrm>
            <a:off x="6324480" y="0"/>
            <a:ext cx="2271960" cy="1317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pe02365_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3200400" y="228600"/>
            <a:ext cx="960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3"/>
          <a:srcRect l="0" t="7560" r="9860" b="1375"/>
          <a:stretch/>
        </p:blipFill>
        <p:spPr>
          <a:xfrm>
            <a:off x="482760" y="1144440"/>
            <a:ext cx="8243640" cy="95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625320" y="673200"/>
            <a:ext cx="8264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Push-Up Tes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839880" y="1511280"/>
            <a:ext cx="7872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. Explain the purpose of the test to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839880" y="2349360"/>
            <a:ext cx="7859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2. Inform client of proper breathing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echnique (i.e., exhale when pushing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way from the floor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7201080" y="6181560"/>
            <a:ext cx="163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4"/>
          <a:stretch/>
        </p:blipFill>
        <p:spPr>
          <a:xfrm>
            <a:off x="2082960" y="3968640"/>
            <a:ext cx="317484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3"/>
          <a:srcRect l="0" t="7560" r="9860" b="1375"/>
          <a:stretch/>
        </p:blipFill>
        <p:spPr>
          <a:xfrm>
            <a:off x="482760" y="1144440"/>
            <a:ext cx="8243640" cy="954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4"/>
          <p:cNvSpPr/>
          <p:nvPr/>
        </p:nvSpPr>
        <p:spPr>
          <a:xfrm>
            <a:off x="625320" y="673200"/>
            <a:ext cx="8264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Push-Up Test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839880" y="1511280"/>
            <a:ext cx="7872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3. For male clients: Standard “up” position,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ith hands shoulder-width apart, back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raight, head up, using the toes as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ivotal poi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839880" y="3111480"/>
            <a:ext cx="7859520" cy="32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4. For female clients: Modified “knee push-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p” position, with legs together, low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egs in contact with mat with ankle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lantar flexed, back straight, hand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houlder-width apart, head u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ote: Some males need to use modifie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sition, and some females can use full-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ody posi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7201080" y="6181560"/>
            <a:ext cx="163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3"/>
          <a:srcRect l="0" t="7560" r="9860" b="1375"/>
          <a:stretch/>
        </p:blipFill>
        <p:spPr>
          <a:xfrm>
            <a:off x="482760" y="1144440"/>
            <a:ext cx="8243640" cy="954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625320" y="673200"/>
            <a:ext cx="8264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Push-Up Test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839880" y="1511280"/>
            <a:ext cx="78724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5. The subject must lower the body until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hin touches the mat. The abdomen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hould not touch the m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839880" y="2730600"/>
            <a:ext cx="7859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6. The subject’s back must be straight at all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imes, and the subject must push up to a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raight-arm posi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7201080" y="6181560"/>
            <a:ext cx="163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838080" y="3949560"/>
            <a:ext cx="78598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7. Demonstrate the test, and allow the client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 practice if desi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0" y="15228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3"/>
          <a:srcRect l="0" t="7560" r="9860" b="1375"/>
          <a:stretch/>
        </p:blipFill>
        <p:spPr>
          <a:xfrm>
            <a:off x="482760" y="1144440"/>
            <a:ext cx="8243640" cy="954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625320" y="673200"/>
            <a:ext cx="8264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Push-Up Test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839880" y="1511280"/>
            <a:ext cx="7872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8. Remind the client that brief rest is allowe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nly in the up posi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839880" y="2352600"/>
            <a:ext cx="7859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9. Begin the test when the client is ready,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d count the total number of push-up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at the client completes before reaching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haus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738360" y="3952800"/>
            <a:ext cx="7859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0. The client’s score is the total number of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ush-ups perform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846360" y="4789440"/>
            <a:ext cx="77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1.  Percentiles can be found on p. 87 ACS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3"/>
          <a:srcRect l="0" t="7560" r="9860" b="1375"/>
          <a:stretch/>
        </p:blipFill>
        <p:spPr>
          <a:xfrm>
            <a:off x="482760" y="1131840"/>
            <a:ext cx="8243640" cy="954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625320" y="660240"/>
            <a:ext cx="8264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Curl-Up Tes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839880" y="1498680"/>
            <a:ext cx="7872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. Explain the purpose of the test to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839880" y="2336760"/>
            <a:ext cx="7859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2. Inform the client of proper breathing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echnique (exhale when curling up from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floor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7201080" y="6181560"/>
            <a:ext cx="163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838080" y="3556080"/>
            <a:ext cx="78598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3. Individual assumes a supine position on a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t with the knees bent 90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838080" y="4397400"/>
            <a:ext cx="78598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4. The arms are at the sides, with finger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uching a piece of masking tap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0" y="7632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3"/>
          <a:srcRect l="0" t="7560" r="9860" b="1375"/>
          <a:stretch/>
        </p:blipFill>
        <p:spPr>
          <a:xfrm>
            <a:off x="482760" y="1004760"/>
            <a:ext cx="8243640" cy="954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625320" y="533520"/>
            <a:ext cx="8264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Curl-Up Test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839880" y="1295280"/>
            <a:ext cx="7872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5. A second piece of masking tape is place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0 cm apa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839880" y="2438280"/>
            <a:ext cx="785952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6. A metronome is set to 50 beats/min an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individual does slow, controlled curl-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ps to lift the shoulder blades off the mat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(trunk makes a 30° angle with the mat) in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ime with the metronome (25 curl-ups/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n). The low back should be flattene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efore curling up.  The test is done for 1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nu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7201080" y="6181560"/>
            <a:ext cx="163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0" y="30492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3"/>
          <a:srcRect l="0" t="7560" r="9860" b="1375"/>
          <a:stretch/>
        </p:blipFill>
        <p:spPr>
          <a:xfrm>
            <a:off x="482760" y="1004760"/>
            <a:ext cx="8243640" cy="954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625320" y="533520"/>
            <a:ext cx="8264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Curl-Up Test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839880" y="1295280"/>
            <a:ext cx="7872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7. Demonstrate the test, and allow the client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 practice if desi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839880" y="2133720"/>
            <a:ext cx="7859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050840" y="2438280"/>
            <a:ext cx="707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3366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ercentiles by age groups and gender can be found on p. 88 AC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6" name="Picture 7" descr=""/>
          <p:cNvPicPr/>
          <p:nvPr/>
        </p:nvPicPr>
        <p:blipFill>
          <a:blip r:embed="rId4"/>
          <a:stretch/>
        </p:blipFill>
        <p:spPr>
          <a:xfrm>
            <a:off x="3168720" y="4197240"/>
            <a:ext cx="224136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662040" y="1917720"/>
            <a:ext cx="8024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enior Fitness Test (SF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9" name="Picture 4" descr="bullet"/>
          <p:cNvPicPr/>
          <p:nvPr/>
        </p:nvPicPr>
        <p:blipFill>
          <a:blip r:embed="rId3"/>
          <a:stretch/>
        </p:blipFill>
        <p:spPr>
          <a:xfrm>
            <a:off x="763560" y="2411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1195560" y="2374920"/>
            <a:ext cx="7389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ssess the key physiological parameters (i.e., strength, endurance, agility, and balance) needed to perform common everyday physical activities that often become difficult for older individua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4"/>
          <a:srcRect l="0" t="7560" r="9860" b="1375"/>
          <a:stretch/>
        </p:blipFill>
        <p:spPr>
          <a:xfrm>
            <a:off x="482760" y="1550880"/>
            <a:ext cx="8243640" cy="954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625320" y="534960"/>
            <a:ext cx="80870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Special Considerations:</a:t>
            </a:r>
            <a:br>
              <a:rPr sz="4400"/>
            </a:b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Older Adul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Picture 8" descr="bullet"/>
          <p:cNvPicPr/>
          <p:nvPr/>
        </p:nvPicPr>
        <p:blipFill>
          <a:blip r:embed="rId5"/>
          <a:stretch/>
        </p:blipFill>
        <p:spPr>
          <a:xfrm>
            <a:off x="763560" y="43927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9"/>
          <p:cNvSpPr/>
          <p:nvPr/>
        </p:nvSpPr>
        <p:spPr>
          <a:xfrm>
            <a:off x="1195560" y="4356000"/>
            <a:ext cx="7389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specific tests included in the SFT, the 30-s chair stand and the single arm curl, can be used to assess muscular strength and endurance in most older adults safely and effective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bullet"/>
          <p:cNvPicPr/>
          <p:nvPr/>
        </p:nvPicPr>
        <p:blipFill>
          <a:blip r:embed="rId3"/>
          <a:stretch/>
        </p:blipFill>
        <p:spPr>
          <a:xfrm>
            <a:off x="763560" y="19954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195560" y="1952640"/>
            <a:ext cx="738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dication of lower body strengt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8" name="Picture 5" descr="bullet"/>
          <p:cNvPicPr/>
          <p:nvPr/>
        </p:nvPicPr>
        <p:blipFill>
          <a:blip r:embed="rId4"/>
          <a:stretch/>
        </p:blipFill>
        <p:spPr>
          <a:xfrm>
            <a:off x="763560" y="243684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1195560" y="2400480"/>
            <a:ext cx="7389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unt the number of times within 30 s that an individual can rise to a full stand from a seated position without pushing off with the ar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5"/>
          <a:srcRect l="0" t="7560" r="9860" b="1375"/>
          <a:stretch/>
        </p:blipFill>
        <p:spPr>
          <a:xfrm>
            <a:off x="482760" y="1617840"/>
            <a:ext cx="8243640" cy="950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8"/>
          <p:cNvSpPr/>
          <p:nvPr/>
        </p:nvSpPr>
        <p:spPr>
          <a:xfrm>
            <a:off x="625320" y="609480"/>
            <a:ext cx="80870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The 30-Second </a:t>
            </a:r>
            <a:br>
              <a:rPr sz="4400"/>
            </a:b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Chair Stand Tes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bullet"/>
          <p:cNvPicPr/>
          <p:nvPr/>
        </p:nvPicPr>
        <p:blipFill>
          <a:blip r:embed="rId3"/>
          <a:stretch/>
        </p:blipFill>
        <p:spPr>
          <a:xfrm>
            <a:off x="763560" y="159696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1195560" y="1554120"/>
            <a:ext cx="7389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dication of upper body function that is important in executing many normal everyday activit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5" name="Picture 5" descr="bullet"/>
          <p:cNvPicPr/>
          <p:nvPr/>
        </p:nvPicPr>
        <p:blipFill>
          <a:blip r:embed="rId4"/>
          <a:stretch/>
        </p:blipFill>
        <p:spPr>
          <a:xfrm>
            <a:off x="763560" y="2805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6"/>
          <p:cNvSpPr/>
          <p:nvPr/>
        </p:nvSpPr>
        <p:spPr>
          <a:xfrm>
            <a:off x="1195560" y="2768760"/>
            <a:ext cx="7389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volves determining the number of times a dumbbell (5 lb, or 2.3 kg, for women;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8 lb, or 3.6 kg, for men) can be curled through a full range of motion in 30 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5"/>
          <a:srcRect l="0" t="7560" r="9860" b="1375"/>
          <a:stretch/>
        </p:blipFill>
        <p:spPr>
          <a:xfrm>
            <a:off x="482760" y="1219320"/>
            <a:ext cx="8243640" cy="9504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8"/>
          <p:cNvSpPr/>
          <p:nvPr/>
        </p:nvSpPr>
        <p:spPr>
          <a:xfrm>
            <a:off x="625320" y="743040"/>
            <a:ext cx="8087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Single Arm Curl Tes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Resistance Training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quires the body to move against an opposing force-usually some type of equipm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scular Strength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– maximal amount of force a muscle or group of muscles can generate in a single maximal contraction or with a single maximal effor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scular Enduranc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– capacity to exert repetitive muscular force or the ability of the muscle to remain contracted or contract repeatedly for long periods of ti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3035160" y="4648320"/>
            <a:ext cx="1689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771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FLEXIBILITY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12800" y="1599840"/>
            <a:ext cx="771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Flexibilit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34903"/>
                </a:solidFill>
                <a:latin typeface="Arial"/>
              </a:rPr>
              <a:t>Defined as the range of motion (ROM) of a single joint or a group of joints.  It is specific to each joint.  The amount of movement is largely determined by the tightness of muscles, tendons, and ligaments that are attached to the join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nefit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349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903"/>
                </a:solidFill>
                <a:latin typeface="Arial"/>
              </a:rPr>
              <a:t>Reduce muscle soren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349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903"/>
                </a:solidFill>
                <a:latin typeface="Arial"/>
              </a:rPr>
              <a:t>Reduce muscle ten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349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903"/>
                </a:solidFill>
                <a:latin typeface="Arial"/>
              </a:rPr>
              <a:t>Reduce risk of low back p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349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903"/>
                </a:solidFill>
                <a:latin typeface="Arial"/>
              </a:rPr>
              <a:t>Improve muscle perform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349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903"/>
                </a:solidFill>
                <a:latin typeface="Arial"/>
              </a:rPr>
              <a:t>Improve pos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349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903"/>
                </a:solidFill>
                <a:latin typeface="Arial"/>
              </a:rPr>
              <a:t>Improve muscle coordin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349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903"/>
                </a:solidFill>
                <a:latin typeface="Arial"/>
              </a:rPr>
              <a:t>Reduce the risk of inju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6477120" y="3581280"/>
            <a:ext cx="2222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Ch05Stretching1"/>
          <p:cNvPicPr/>
          <p:nvPr/>
        </p:nvPicPr>
        <p:blipFill>
          <a:blip r:embed="rId2"/>
          <a:stretch/>
        </p:blipFill>
        <p:spPr>
          <a:xfrm>
            <a:off x="838080" y="609480"/>
            <a:ext cx="7696440" cy="567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ypes of Flexibility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34903"/>
                </a:solidFill>
                <a:latin typeface="Arial"/>
              </a:rPr>
              <a:t>Active (Dynamic) Flexibility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1700" spc="-1" strike="noStrike">
                <a:solidFill>
                  <a:srgbClr val="100800"/>
                </a:solidFill>
                <a:latin typeface="Arial"/>
              </a:rPr>
              <a:t>“The degree to which the force of a muscle contraction can move a joint.”  A muscle is stretched by a contraction of the opposing muscle.  Involves movement.  Dynamic shoulder flexibility would affect your ability to swing a golf club.  Important for daily activities and sports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34903"/>
                </a:solidFill>
                <a:latin typeface="Arial"/>
              </a:rPr>
              <a:t>Passive (Static) Flexibility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1700" spc="-1" strike="noStrike">
                <a:solidFill>
                  <a:srgbClr val="100800"/>
                </a:solidFill>
                <a:latin typeface="Arial"/>
              </a:rPr>
              <a:t>Refers to the ability to assume and maintain an extended position at one end or point in a joint’s range of motion.  It involves no muscle contraction.  An outside force or resistance provided by yourself, a partner, gravity or a weight helps the joints move through their ROM.  Easier to measure than dynamic flexibility and is usually how we refer to flexibility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2"/>
          <a:stretch/>
        </p:blipFill>
        <p:spPr>
          <a:xfrm>
            <a:off x="3054240" y="4457880"/>
            <a:ext cx="296568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FITT PRINCIPLE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0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00800"/>
                </a:solidFill>
                <a:latin typeface="Arial"/>
              </a:rPr>
              <a:t>FREQUENCY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– minimum of 2-3 days/week; 5-7 days/week may be better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0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00800"/>
                </a:solidFill>
                <a:latin typeface="Arial"/>
              </a:rPr>
              <a:t>INTENSITY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– Slowly stretc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m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muscles to the point of slight tension or mild discomfort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0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00800"/>
                </a:solidFill>
                <a:latin typeface="Arial"/>
              </a:rPr>
              <a:t>TIM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– Hold the stretch for 10-30 seconds; repeating 3- 5 times.  Relax and breath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0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00800"/>
                </a:solidFill>
                <a:latin typeface="Arial"/>
              </a:rPr>
              <a:t>TYP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– Stretch the major muscle groups exercised.  Refer to the end of the chapter for exercise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8" name="Picture 4" descr="MCj03980690000[1]"/>
          <p:cNvPicPr/>
          <p:nvPr/>
        </p:nvPicPr>
        <p:blipFill>
          <a:blip r:embed="rId2"/>
          <a:stretch/>
        </p:blipFill>
        <p:spPr>
          <a:xfrm>
            <a:off x="6172200" y="4495680"/>
            <a:ext cx="18064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762120" y="762120"/>
            <a:ext cx="7924680" cy="3808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Flexibility Test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838080" y="1447920"/>
            <a:ext cx="7693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lexibility of one joint does not necessarily indicate flexibility of other joints.  There is no general flexibility test for the whole body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it and Reach te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Used by almost all health related physical fitness testing batter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Used extensively because it has been noted that people with low back problems often have a restricted ROM in the hamstrings and lower back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ee pg. 95 ACSM for Canadian Trunk Forward Flexion test procedures and norm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4699080" y="4800600"/>
            <a:ext cx="2463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Lower Back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12800" y="1371600"/>
            <a:ext cx="771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903"/>
                </a:solidFill>
                <a:latin typeface="Arial"/>
              </a:rPr>
              <a:t>Low Back Pain has a direct relationship to lifestyle and wellness behaviors.  Proper lifestyle choices can help prevent LBP.  Sedentary lifestyles contribute to loss of muscular strength, endurance, and a limited ROM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903"/>
                </a:solidFill>
                <a:latin typeface="Arial"/>
              </a:rPr>
              <a:t>Low Back Pain is the number one physical complaint by individuals ages 25-60 in the U.S.  Second most common ailment for job absenteeism for ages 30-60.  It contributes for 25% of days lost for the entire work force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903"/>
                </a:solidFill>
                <a:latin typeface="Arial"/>
              </a:rPr>
              <a:t>LBP will affect 60-80% of the American and European population at some point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903"/>
                </a:solidFill>
                <a:latin typeface="Arial"/>
              </a:rPr>
              <a:t>$50 billion will be spent each year by government and industry for LBP (job absenteeism, disability payments, worker’s compensations, disability insurance, medical and legal fe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903"/>
                </a:solidFill>
                <a:latin typeface="Arial"/>
              </a:rPr>
              <a:t>Most pain occurs in the lumbar (lower) and sacral region because it bears the majority of your weigh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uses of LBP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28600" y="1142640"/>
            <a:ext cx="5943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00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0800"/>
                </a:solidFill>
                <a:latin typeface="Arial"/>
              </a:rPr>
              <a:t>The most common cause of LBP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08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100800"/>
                </a:solidFill>
                <a:latin typeface="Arial"/>
              </a:rPr>
              <a:t>is physical inactivity!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00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0800"/>
                </a:solidFill>
                <a:latin typeface="Arial"/>
              </a:rPr>
              <a:t>Poor posture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00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0800"/>
                </a:solidFill>
                <a:latin typeface="Arial"/>
              </a:rPr>
              <a:t>Faulty body mechanic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00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0800"/>
                </a:solidFill>
                <a:latin typeface="Arial"/>
              </a:rPr>
              <a:t>Stressful living and working habit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00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0800"/>
                </a:solidFill>
                <a:latin typeface="Arial"/>
              </a:rPr>
              <a:t>Weak musculature – especially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08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100800"/>
                </a:solidFill>
                <a:latin typeface="Arial"/>
              </a:rPr>
              <a:t>the ab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00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0800"/>
                </a:solidFill>
                <a:latin typeface="Arial"/>
              </a:rPr>
              <a:t>Poor flexibility in the lower back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00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0800"/>
                </a:solidFill>
                <a:latin typeface="Arial"/>
              </a:rPr>
              <a:t>and hamstring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00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0800"/>
                </a:solidFill>
                <a:latin typeface="Arial"/>
              </a:rPr>
              <a:t>Smoking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00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724360" y="3024360"/>
          <a:ext cx="1710000" cy="33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360" y="3024360"/>
                    <a:ext cx="1710000" cy="33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8" name="Picture 4" descr=""/>
          <p:cNvPicPr/>
          <p:nvPr/>
        </p:nvPicPr>
        <p:blipFill>
          <a:blip r:embed="rId4"/>
          <a:stretch/>
        </p:blipFill>
        <p:spPr>
          <a:xfrm>
            <a:off x="6197760" y="1022400"/>
            <a:ext cx="13460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evention of LBP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9243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4903"/>
                </a:solidFill>
                <a:latin typeface="Arial"/>
              </a:rPr>
              <a:t>Exercise regularly to strengthen your back and abdominal muscl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4903"/>
                </a:solidFill>
                <a:latin typeface="Arial"/>
              </a:rPr>
              <a:t>Lose weight, if necessary, to lessen strain on your back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4903"/>
                </a:solidFill>
                <a:latin typeface="Arial"/>
              </a:rPr>
              <a:t>Avoid smoking (which increases degenerative changes in the spine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4903"/>
                </a:solidFill>
                <a:latin typeface="Arial"/>
              </a:rPr>
              <a:t>Lift by bending at your knees, rather than the waist, using leg muscles to do most of the work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4903"/>
                </a:solidFill>
                <a:latin typeface="Arial"/>
              </a:rPr>
              <a:t>Receive objects from others or platforms near to your body, and avoid twisting or bending at the waist while handling or transferring i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1" name="Picture 4" descr="backtrcbody11"/>
          <p:cNvPicPr/>
          <p:nvPr/>
        </p:nvPicPr>
        <p:blipFill>
          <a:blip r:embed="rId2"/>
          <a:srcRect l="12903" t="0" r="9677" b="0"/>
          <a:stretch/>
        </p:blipFill>
        <p:spPr>
          <a:xfrm>
            <a:off x="5029200" y="1752480"/>
            <a:ext cx="3505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0" y="21337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903"/>
                </a:solidFill>
                <a:latin typeface="Arial"/>
              </a:rPr>
              <a:t>Avoid sitting, standing, or working in any one position for too lo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903"/>
                </a:solidFill>
                <a:latin typeface="Arial"/>
              </a:rPr>
              <a:t>Maintain a correct posture (sit with your shoulders back and feet flat on the floor, or on a footstool or chair rung.  Stand with head and chest high, neck straight, stomach and buttocks held in, and pelvis forward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903"/>
                </a:solidFill>
                <a:latin typeface="Arial"/>
              </a:rPr>
              <a:t>Use a comfortable, supportive seat while driving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903"/>
                </a:solidFill>
                <a:latin typeface="Arial"/>
              </a:rPr>
              <a:t>Use a firm mattress, and sleep on your side with knees drawn up or on your back with a pillow under bent kne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903"/>
                </a:solidFill>
                <a:latin typeface="Arial"/>
              </a:rPr>
              <a:t>Try to reduce emotional stress that causes muscle tens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903"/>
                </a:solidFill>
                <a:latin typeface="Arial"/>
              </a:rPr>
              <a:t>Be thoroughly warmed-up before engaging in vigorous exercise or sports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903"/>
                </a:solidFill>
                <a:latin typeface="Arial"/>
              </a:rPr>
              <a:t>Undergo a gradual progression when attempting to improve strength or athletic ability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7716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evention of LB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2"/>
          <a:stretch/>
        </p:blipFill>
        <p:spPr>
          <a:xfrm>
            <a:off x="6489720" y="685800"/>
            <a:ext cx="143496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eatment of Low Back Pain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12800" y="1371600"/>
            <a:ext cx="771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Physical Activity – Only 1% of all back patients need surgery.  Most rehabilitation and prevention is lifestyle related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Maintain a normal weight.  Excess abdominal weight can lead to lordosis and poor postu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Participate in regular aerobic exercise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Participate in regular muscular strength and endurance activities, especially for the abdominal and back regi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Incorporate lower back and hamstring flexibility exercises.  Work all the planes of mo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7" name="Picture 4" descr="MCj01500040000[1]"/>
          <p:cNvPicPr/>
          <p:nvPr/>
        </p:nvPicPr>
        <p:blipFill>
          <a:blip r:embed="rId2"/>
          <a:stretch/>
        </p:blipFill>
        <p:spPr>
          <a:xfrm>
            <a:off x="7772400" y="3352680"/>
            <a:ext cx="13716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ACSM Guideline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istance training should be progressive, individualized, and provide a stimulus to all the major muscle group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e set 8-10 exercises for major muscle grou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 days/week minim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-20 repetitions to fatigue (RPE 19-20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  chest press, shoulder press, tricep extension, bicep curl, lat pull-down, lower back extension, ab crunch, leg extension, leg curl, calf rai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2971800" y="5334120"/>
            <a:ext cx="181620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ip of the Day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10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557"/>
                </a:solidFill>
                <a:latin typeface="Arial"/>
              </a:rPr>
              <a:t>Results in training occur with consistency and effort – a lifestyle habit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0" name="Picture 4" descr="MCj02418710000[1]"/>
          <p:cNvPicPr/>
          <p:nvPr/>
        </p:nvPicPr>
        <p:blipFill>
          <a:blip r:embed="rId2"/>
          <a:stretch/>
        </p:blipFill>
        <p:spPr>
          <a:xfrm>
            <a:off x="5791320" y="4038480"/>
            <a:ext cx="25905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bullet"/>
          <p:cNvPicPr/>
          <p:nvPr/>
        </p:nvPicPr>
        <p:blipFill>
          <a:blip r:embed="rId3"/>
          <a:stretch/>
        </p:blipFill>
        <p:spPr>
          <a:xfrm>
            <a:off x="763560" y="19954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195560" y="1952640"/>
            <a:ext cx="7389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eservation of, or enhanced, fat-free mass and resting metabolic r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5" descr="bullet"/>
          <p:cNvPicPr/>
          <p:nvPr/>
        </p:nvPicPr>
        <p:blipFill>
          <a:blip r:embed="rId4"/>
          <a:stretch/>
        </p:blipFill>
        <p:spPr>
          <a:xfrm>
            <a:off x="763560" y="28465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1195560" y="2809800"/>
            <a:ext cx="7389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eservation of, or enhanced, bone mass with ag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7" descr="bullet"/>
          <p:cNvPicPr/>
          <p:nvPr/>
        </p:nvPicPr>
        <p:blipFill>
          <a:blip r:embed="rId5"/>
          <a:stretch/>
        </p:blipFill>
        <p:spPr>
          <a:xfrm>
            <a:off x="763560" y="37018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1195560" y="3665520"/>
            <a:ext cx="7389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roved glucose tolerance and insulin sensitiv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6"/>
          <a:srcRect l="0" t="7560" r="9860" b="1375"/>
          <a:stretch/>
        </p:blipFill>
        <p:spPr>
          <a:xfrm>
            <a:off x="482760" y="1617840"/>
            <a:ext cx="8243640" cy="950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"/>
          <p:cNvSpPr/>
          <p:nvPr/>
        </p:nvSpPr>
        <p:spPr>
          <a:xfrm>
            <a:off x="625320" y="609480"/>
            <a:ext cx="80870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Health Benefits </a:t>
            </a:r>
            <a:br>
              <a:rPr sz="4400"/>
            </a:b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of Muscular Fitnes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11" descr="bullet"/>
          <p:cNvPicPr/>
          <p:nvPr/>
        </p:nvPicPr>
        <p:blipFill>
          <a:blip r:embed="rId7"/>
          <a:stretch/>
        </p:blipFill>
        <p:spPr>
          <a:xfrm>
            <a:off x="763560" y="454644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2"/>
          <p:cNvSpPr/>
          <p:nvPr/>
        </p:nvSpPr>
        <p:spPr>
          <a:xfrm>
            <a:off x="1195560" y="4510080"/>
            <a:ext cx="7389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duced heart rate and blood pressure response while lifting any submaximal load (which reduces myocardial oxygen demand during activities requiring muscular forc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7201080" y="6181560"/>
            <a:ext cx="163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bullet"/>
          <p:cNvPicPr/>
          <p:nvPr/>
        </p:nvPicPr>
        <p:blipFill>
          <a:blip r:embed="rId3"/>
          <a:stretch/>
        </p:blipFill>
        <p:spPr>
          <a:xfrm>
            <a:off x="763560" y="203976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1195560" y="1996920"/>
            <a:ext cx="7389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owered risk of musculoskeletal injury, including low back p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5" descr="bullet"/>
          <p:cNvPicPr/>
          <p:nvPr/>
        </p:nvPicPr>
        <p:blipFill>
          <a:blip r:embed="rId4"/>
          <a:stretch/>
        </p:blipFill>
        <p:spPr>
          <a:xfrm>
            <a:off x="763560" y="28558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1195560" y="2819520"/>
            <a:ext cx="7389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roved ability to carry out activities of daily living in old 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7" descr="bullet"/>
          <p:cNvPicPr/>
          <p:nvPr/>
        </p:nvPicPr>
        <p:blipFill>
          <a:blip r:embed="rId5"/>
          <a:stretch/>
        </p:blipFill>
        <p:spPr>
          <a:xfrm>
            <a:off x="763560" y="369396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1195560" y="3657600"/>
            <a:ext cx="7389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roved balance and decreased risk of falls in old 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9" descr=""/>
          <p:cNvPicPr/>
          <p:nvPr/>
        </p:nvPicPr>
        <p:blipFill>
          <a:blip r:embed="rId6"/>
          <a:srcRect l="0" t="7560" r="9860" b="1375"/>
          <a:stretch/>
        </p:blipFill>
        <p:spPr>
          <a:xfrm>
            <a:off x="482760" y="1662120"/>
            <a:ext cx="8243640" cy="95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625320" y="650880"/>
            <a:ext cx="80870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Health Benefits </a:t>
            </a:r>
            <a:br>
              <a:rPr sz="4400"/>
            </a:b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of Muscular Fitness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11" descr="bullet"/>
          <p:cNvPicPr/>
          <p:nvPr/>
        </p:nvPicPr>
        <p:blipFill>
          <a:blip r:embed="rId7"/>
          <a:stretch/>
        </p:blipFill>
        <p:spPr>
          <a:xfrm>
            <a:off x="763560" y="45324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2"/>
          <p:cNvSpPr/>
          <p:nvPr/>
        </p:nvSpPr>
        <p:spPr>
          <a:xfrm>
            <a:off x="1195560" y="4495680"/>
            <a:ext cx="73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roved self-este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weightsquat1"/>
          <p:cNvPicPr/>
          <p:nvPr/>
        </p:nvPicPr>
        <p:blipFill>
          <a:blip r:embed="rId2"/>
          <a:srcRect l="36035" t="16817" r="14414" b="0"/>
          <a:stretch/>
        </p:blipFill>
        <p:spPr>
          <a:xfrm>
            <a:off x="0" y="0"/>
            <a:ext cx="3086280" cy="3886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~AUT0106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133720" y="2050920"/>
            <a:ext cx="6781680" cy="4807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muscleisokineticphoto9"/>
          <p:cNvPicPr/>
          <p:nvPr/>
        </p:nvPicPr>
        <p:blipFill>
          <a:blip r:embed="rId4"/>
          <a:stretch/>
        </p:blipFill>
        <p:spPr>
          <a:xfrm>
            <a:off x="6095880" y="0"/>
            <a:ext cx="2413080" cy="190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e02359_"/>
          <p:cNvPicPr/>
          <p:nvPr/>
        </p:nvPicPr>
        <p:blipFill>
          <a:blip r:embed="rId5"/>
          <a:stretch/>
        </p:blipFill>
        <p:spPr>
          <a:xfrm>
            <a:off x="4114800" y="5889600"/>
            <a:ext cx="12952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bullet"/>
          <p:cNvPicPr/>
          <p:nvPr/>
        </p:nvPicPr>
        <p:blipFill>
          <a:blip r:embed="rId3"/>
          <a:stretch/>
        </p:blipFill>
        <p:spPr>
          <a:xfrm>
            <a:off x="763560" y="203976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195560" y="1996920"/>
            <a:ext cx="7389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hanced muscular strength and muscular end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5" descr="bullet"/>
          <p:cNvPicPr/>
          <p:nvPr/>
        </p:nvPicPr>
        <p:blipFill>
          <a:blip r:embed="rId4"/>
          <a:stretch/>
        </p:blipFill>
        <p:spPr>
          <a:xfrm>
            <a:off x="763560" y="28558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195560" y="2819520"/>
            <a:ext cx="7389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hanced speed, power, agility, and bal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Picture 7" descr="bullet"/>
          <p:cNvPicPr/>
          <p:nvPr/>
        </p:nvPicPr>
        <p:blipFill>
          <a:blip r:embed="rId5"/>
          <a:stretch/>
        </p:blipFill>
        <p:spPr>
          <a:xfrm>
            <a:off x="763560" y="369396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1195560" y="3657600"/>
            <a:ext cx="73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duced risk for musculoskeletal inju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6"/>
          <a:srcRect l="0" t="7560" r="9860" b="1375"/>
          <a:stretch/>
        </p:blipFill>
        <p:spPr>
          <a:xfrm>
            <a:off x="482760" y="1662120"/>
            <a:ext cx="8243640" cy="95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0"/>
          <p:cNvSpPr/>
          <p:nvPr/>
        </p:nvSpPr>
        <p:spPr>
          <a:xfrm>
            <a:off x="625320" y="638280"/>
            <a:ext cx="80870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Athletic Performance Aspects of Muscular Fitnes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7201080" y="6181560"/>
            <a:ext cx="163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bullet"/>
          <p:cNvPicPr/>
          <p:nvPr/>
        </p:nvPicPr>
        <p:blipFill>
          <a:blip r:embed="rId3"/>
          <a:stretch/>
        </p:blipFill>
        <p:spPr>
          <a:xfrm>
            <a:off x="763560" y="24130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195560" y="2370240"/>
            <a:ext cx="7389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roved body composition for various events or activ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5" descr="bullet"/>
          <p:cNvPicPr/>
          <p:nvPr/>
        </p:nvPicPr>
        <p:blipFill>
          <a:blip r:embed="rId4"/>
          <a:stretch/>
        </p:blipFill>
        <p:spPr>
          <a:xfrm>
            <a:off x="763560" y="323676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1195560" y="3200400"/>
            <a:ext cx="7389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roved confidence for performing certain athletic activities involving high levels of muscular fit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Picture 7" descr="bullet"/>
          <p:cNvPicPr/>
          <p:nvPr/>
        </p:nvPicPr>
        <p:blipFill>
          <a:blip r:embed="rId5"/>
          <a:stretch/>
        </p:blipFill>
        <p:spPr>
          <a:xfrm>
            <a:off x="763560" y="44560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1195560" y="4419720"/>
            <a:ext cx="7389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hanced performance in most athletic activ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6"/>
          <a:srcRect l="0" t="7560" r="9860" b="1375"/>
          <a:stretch/>
        </p:blipFill>
        <p:spPr>
          <a:xfrm>
            <a:off x="482760" y="2035080"/>
            <a:ext cx="8243640" cy="954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625320" y="723960"/>
            <a:ext cx="80870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Athletic Performance Aspects of Muscular Fitness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8:22:13Z</dcterms:created>
  <dc:creator>Karen Dennis</dc:creator>
  <dc:description/>
  <dc:language>en-US</dc:language>
  <cp:lastModifiedBy>Betty Henson</cp:lastModifiedBy>
  <dcterms:modified xsi:type="dcterms:W3CDTF">2011-11-09T19:39:45Z</dcterms:modified>
  <cp:revision>11</cp:revision>
  <dc:subject/>
  <dc:title>Slide 1</dc:title>
</cp:coreProperties>
</file>